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gif" ContentType="image/gif"/>
  <Override PartName="/ppt/media/image13.jpeg" ContentType="image/jpeg"/>
  <Override PartName="/ppt/media/image8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4CFD-3684-43E0-9C5A-597287AF8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0804-1B27-4D7B-81A3-E6AEAB491F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142E-3FF9-4A53-98F5-6196533F0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A2F9-42F6-4220-A782-4B1ACB2D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21D-452A-4E02-B87C-2AFE88FE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352D-0FBD-4F1D-B268-80F665DF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984F-054B-447C-95B2-248DB610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CF3E-1D13-4116-A8F3-9B2DBF63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CD7E-A9F7-4B9B-B2DE-A31F44F7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B9ED-6CC9-495B-81C8-A858CFA3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3D7D-AEDA-4B80-B2A7-DF72721B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D411-D917-45D2-9F11-2665C9AC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77D9-CA49-4D12-8CA2-8B29573A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485C-105D-4289-A707-EE068E9B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6860-FFC0-4C71-97A2-ACC2713B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FD72-5897-4444-9CCE-D0F5BD6F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81EC-B53C-4FEE-ABD8-825CD95B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678E-D393-49F6-9F8E-97BAC308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29EF-3ABF-4E65-87F6-A6935023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2A11-6A3A-457B-92E6-4585334F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7D8D-AEB5-4C90-A913-96AB3C21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D0D1-7892-4966-9B15-F1D3330E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C66-2D98-4650-995A-E6C7506E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07F9-7CEE-4C68-81D9-6A1C8014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50D3-D793-47C1-868B-44A0F05A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648E-A74D-4CF1-8D10-332C6B6A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2E9A-A8CB-474E-8262-D91A539E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48EF-B68E-40D9-8C5B-CF0C5B725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4173120" y="137880"/>
            <a:ext cx="290052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600" spc="-1" strike="noStrike">
                <a:solidFill>
                  <a:srgbClr val="de6c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de6c36"/>
                </a:solidFill>
                <a:latin typeface="Times New Roman"/>
              </a:rPr>
              <a:t>Presentation title</a:t>
            </a: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dt" idx="5"/>
          </p:nvPr>
        </p:nvSpPr>
        <p:spPr>
          <a:xfrm>
            <a:off x="7186680" y="137880"/>
            <a:ext cx="120168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600" spc="-1" strike="noStrike">
                <a:solidFill>
                  <a:srgbClr val="de6c3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de6c36"/>
                </a:solidFill>
                <a:latin typeface="Times New Roman"/>
              </a:rPr>
              <a:t>Date</a:t>
            </a: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8515440" y="139320"/>
            <a:ext cx="31104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600" spc="-1" strike="noStrike">
                <a:solidFill>
                  <a:srgbClr val="de6c3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F7BC-93DB-46A0-8ECE-290298154118}" type="slidenum">
              <a:rPr b="0" lang="en-GB" sz="600" spc="-1" strike="noStrike">
                <a:solidFill>
                  <a:srgbClr val="de6c36"/>
                </a:solidFill>
                <a:latin typeface="Times New Roman"/>
              </a:rPr>
              <a:t>&lt;number&gt;</a:t>
            </a:fld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ahUKEwipw7vk8a3PAhVI2BoKHeJvD3gQjRwIBw&amp;url=http%3A%2F%2Fwww.newhealthadvisor.com%2FHypoglycemia-in-Children.html&amp;psig=AFQjCNEZhfUQ0EIi7uel7VsvDKL-RVMWmw&amp;ust=1475008709967110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24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СС: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РГЕНТНА МЕДИЦИНА</a:t>
            </a:r>
            <a:br>
              <a:rPr sz="2000"/>
            </a:b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СТАВНА ЈЕДИНИЦА 3 </a:t>
            </a: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Акутне компликације шећерне болести 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Адисонска криза.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Феохромоцитом.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Тиреотоксична криза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. Микседемска кома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иолета Младен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Компликације Д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5105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ципитира Д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розн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Леукоцитоза (секундарна у ацидоз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ш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ко се не поправља применом течности/И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аскуларна тромбо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збиљна дехидрата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Церебрални к.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шава се сатима или данима након Д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лућни ед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езултат агресивне надокнаде теч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0" y="990720"/>
            <a:ext cx="45720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ождани ед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 првих 24 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змењен ментални стату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х: Манито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нтубација са хипервентилациј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beware"/>
          <p:cNvPicPr/>
          <p:nvPr/>
        </p:nvPicPr>
        <p:blipFill>
          <a:blip r:embed="rId2"/>
          <a:srcRect l="4451" t="3609" r="4451" b="27034"/>
          <a:stretch/>
        </p:blipFill>
        <p:spPr>
          <a:xfrm>
            <a:off x="5562720" y="4400640"/>
            <a:ext cx="3276360" cy="2228760"/>
          </a:xfrm>
          <a:prstGeom prst="rect">
            <a:avLst/>
          </a:prstGeom>
          <a:ln w="25560">
            <a:solidFill>
              <a:srgbClr val="ccccff"/>
            </a:solidFill>
            <a:miter/>
          </a:ln>
        </p:spPr>
      </p:pic>
      <p:pic>
        <p:nvPicPr>
          <p:cNvPr id="168" name="Picture 4" descr="danger1"/>
          <p:cNvPicPr/>
          <p:nvPr/>
        </p:nvPicPr>
        <p:blipFill>
          <a:blip r:embed="rId3"/>
          <a:stretch/>
        </p:blipFill>
        <p:spPr>
          <a:xfrm>
            <a:off x="7924680" y="0"/>
            <a:ext cx="121932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ХИПЕРОСМОЛАРН</a:t>
            </a:r>
            <a:r>
              <a:rPr b="1" lang="sr-Latn-CS" sz="2800" spc="-1" strike="noStrike">
                <a:solidFill>
                  <a:srgbClr val="7030a0"/>
                </a:solidFill>
                <a:latin typeface="Arial"/>
                <a:ea typeface="Arial"/>
              </a:rPr>
              <a:t>О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 НЕКЕТОГЕН</a:t>
            </a:r>
            <a:r>
              <a:rPr b="1" lang="sr-Latn-CS" sz="2800" spc="-1" strike="noStrike">
                <a:solidFill>
                  <a:srgbClr val="7030a0"/>
                </a:solidFill>
                <a:latin typeface="Arial"/>
                <a:ea typeface="Arial"/>
              </a:rPr>
              <a:t>О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7030a0"/>
                </a:solidFill>
                <a:latin typeface="Arial"/>
                <a:ea typeface="Arial"/>
              </a:rPr>
              <a:t>СТ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83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јагностички критеријум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Гликемија &gt;33.0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смоларност плазме &gt;320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O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H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крви &gt; 7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ефицит волумена око 10 лита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Гликозурија без кетонур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ечењ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.9%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изиолошки раств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L IV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око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0 min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ат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L/h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о подизања крвног притиска, побољшања циркулације и диурез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сули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се даје у болус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.15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kg IV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 зат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.1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kg/h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 инфузији након првог литра раствора. Пребрза редукција осмоларности може да доведе до едема мозг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ада гликемија достигне 14 мМ смањује се доза инсулина и уводе раствори ГИК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докнада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алијум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је иста као за дијабетесну кетоацидоз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3. ЛАКТАТНА АЦИДО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тање праћено смањењем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крви уз пораст концентрације лактата у крви (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m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Јавља се у ситуацијама када је појачано стварање и/или смањено искоришћавање лактата у организму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ксиј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лкохолизам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олести јетр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фицит Ви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м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Б1 - смањена активност пируват-ДХ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на бигванид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ечење узрока који доводе до лактатне ацидоз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на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икарбонат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(опрез због могуће појаве електролитских поремећаја – хипокалиемиј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бегавање вазоконстрикторних лек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4. ХИПОГЛИКЕМ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"/>
              </a:rPr>
              <a:t>Хипогликемиј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је клиничко стање у којем је ниво гликозе у крви мањи од 3,0 m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М/л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КЛАСИФИКА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гликемије наш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(јављају се након периода неуношења хране, а њихово  испољавање повезано је са гладовање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прандијалне (реактивне, стимулативне) хипогликем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јављају се неко време након узимања хра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видне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ctit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или лажне хипогликем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гликемије изазван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секрецијом инсулина-инсулин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гликемије изазван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олестима јет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гликемије изазван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ма функције ендокриних орга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гликемије изазван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еликим туморим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оји троше гликоз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гликемије изазване смањеним узимањем или залихама угљених хидра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гликемије изазване аутоимунским процесима (са аутоантителима на инсули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гликемије изазван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лекови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Хипогликемије наште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Резултат слика за hypoglycem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307800"/>
            <a:ext cx="7620120" cy="57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161640"/>
            <a:ext cx="9144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УЗРОЦИ ХИПОГЛИКЕМИЈ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28600" y="1143000"/>
            <a:ext cx="8686800" cy="44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шт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сулином или ектрап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реатичн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умор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кстензив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дисфункција јетр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ладовањ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пс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ронична бубрежна инсуфицијенц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олес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поновањ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ликог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олес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а А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на инсулин и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ормонска дефицијенција (стероиди, хормон раста, епи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Лекови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прандијал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лиментар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реактив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Генетска - га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 или интолеранција на фруктозу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рти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цијал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леукемија, полицитеми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9677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ХИПОГЛИКЕМИЈЕ УЗРОКОВАНЕ ЛЕКОВИ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3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173880" indent="-17388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сулин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рални хипогликемиц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880" indent="-17388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танол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алицилат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ета блокатор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880" indent="-17388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ентамидин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иисопирамид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зониаз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880" indent="-17388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нхибитори МАО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Лекови изазивају ↓ метаболизам јетре О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екови: ОА из групе сулфонилуреје и меглитинида, инсулин и аналози инсул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880" indent="-17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оприносећи фактори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едовољна исхран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изичка активност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зимање алкохо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880" indent="-17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есразмера између примљене терапије, узете хране и потрошње гликозе у ткиви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880" indent="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 flipV="1" rot="10800000">
            <a:off x="0" y="146160"/>
            <a:ext cx="9144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СИМПТОМИ И ЗНАЦИ ХИПОГЛИКЕМИЈ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998640" y="990720"/>
            <a:ext cx="3328920" cy="35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ијаре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алпитациј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лавобољ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ла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рхтањ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лабос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343400" y="1523880"/>
            <a:ext cx="4800600" cy="30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терм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уњенос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нез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пад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м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ило који фокални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ЦН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зна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Симптоми хипогликем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2" descr="C:\Users\ijev\Desktop\Picture1.jpg"/>
          <p:cNvPicPr/>
          <p:nvPr/>
        </p:nvPicPr>
        <p:blipFill>
          <a:blip r:embed="rId1"/>
          <a:stretch/>
        </p:blipFill>
        <p:spPr>
          <a:xfrm>
            <a:off x="609480" y="1219320"/>
            <a:ext cx="8153640" cy="48765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6"/>
          <p:cNvSpPr/>
          <p:nvPr/>
        </p:nvSpPr>
        <p:spPr>
          <a:xfrm>
            <a:off x="365400" y="6234120"/>
            <a:ext cx="310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000000"/>
                </a:solidFill>
                <a:latin typeface="Calibri"/>
              </a:rPr>
              <a:t>Adaptirano iz Harisonova načela interne medicine, 17. izdanje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195480" y="0"/>
            <a:ext cx="9491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ПОРЕМЕЋАЈИ ЕНДОКРИНОГ СИСТЕ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27200" y="1454040"/>
            <a:ext cx="3260520" cy="70380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МОРФОЛОГИЈ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209600" y="4952880"/>
            <a:ext cx="3667320" cy="178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генез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ктоп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троф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трофија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185840" y="4400640"/>
            <a:ext cx="3691080" cy="39888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еизмењена морфолог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198440" y="2590920"/>
            <a:ext cx="3678480" cy="163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тоф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плаз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еоплазија (бенигна или малигна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124600" y="1476360"/>
            <a:ext cx="3260520" cy="70380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       ФУНКЦИЈ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5748480" y="2813040"/>
            <a:ext cx="252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Хиперфункц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5789520" y="4352760"/>
            <a:ext cx="2522520" cy="39888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ормофункц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869080" y="5619600"/>
            <a:ext cx="252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Хипофункц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847800" y="2103480"/>
            <a:ext cx="0" cy="375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5340240" y="2143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825480" y="338292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4"/>
          <p:cNvSpPr/>
          <p:nvPr/>
        </p:nvSpPr>
        <p:spPr>
          <a:xfrm>
            <a:off x="836640" y="45720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846000" y="585000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5332320" y="2986200"/>
            <a:ext cx="38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5343480" y="457200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5332320" y="5783400"/>
            <a:ext cx="52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Последице</a:t>
            </a: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 и клиничка слика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хипогликем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ТИМУЛАЦИЈА СИМПАТИКУСНОГ НЕРВНОГ СИСТЕ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дрхтавица, хладно презнојавање, најежена кожа, страх, тахикардиј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СЛОБАЂАЊЕ КОНТРАРЕГУЛАТОРНИХ ХОРМО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адреналин, норадреналин, гликортикоиди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ЦТХ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УРОГЛИКОПЕН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смањена концентрација гликозе у ЦНС-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ЛАГ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главобоља, раздражљивост, смањена концентрација, когнитивна дисфунк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ЕШ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поремећај свести, конвулзије, ко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2"/>
          <p:cNvSpPr/>
          <p:nvPr/>
        </p:nvSpPr>
        <p:spPr>
          <a:xfrm flipV="1">
            <a:off x="838080" y="761760"/>
            <a:ext cx="0" cy="556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838080" y="632448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838080" y="1752480"/>
            <a:ext cx="7620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7"/>
          <p:cNvSpPr/>
          <p:nvPr/>
        </p:nvSpPr>
        <p:spPr>
          <a:xfrm>
            <a:off x="838080" y="939960"/>
            <a:ext cx="7696440" cy="5359320"/>
          </a:xfrm>
          <a:prstGeom prst="pie">
            <a:avLst/>
          </a:pr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152280" y="1447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0" y="304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ликемија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777240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рем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1"/>
          <p:cNvSpPr/>
          <p:nvPr/>
        </p:nvSpPr>
        <p:spPr>
          <a:xfrm>
            <a:off x="838080" y="4724280"/>
            <a:ext cx="7696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22860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5715000" y="1828800"/>
            <a:ext cx="3429000" cy="398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лага неурогликопен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5715000" y="2514600"/>
            <a:ext cx="3429000" cy="1008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ктивација СНС и контрарегулаторни хормон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5715000" y="3886200"/>
            <a:ext cx="3429000" cy="3988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ешка неурогликопен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Те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ж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ина хипогликем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7260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ЛАГ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исутни симптоми реакциј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ације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способан да помогне себ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МЕРЕ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исутни симптоми реакциј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С И неурогликопен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ације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способан да помогне себ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Е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ације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није способан да помогне себи, потребн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м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других особ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ог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губитак све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ликемија об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о &lt; 2.8 ммол/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ТЕРАПИЈА ХИПОГЛИКЕМ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ацијент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чуване свест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ји храну могу да узимају на уст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ерорална примена слатких раств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ацијент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 бесвесном стању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ли који храну не могу д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зимају на у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травенска примена гликозе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лу 50%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рзином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10мл/мин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купно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20-50м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Глукагон ињекц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601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GLUCAGEN HYPOKIT (glucagon amp. 1m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3" descr="GlucaGen"/>
          <p:cNvPicPr/>
          <p:nvPr/>
        </p:nvPicPr>
        <p:blipFill>
          <a:blip r:embed="rId1"/>
          <a:stretch/>
        </p:blipFill>
        <p:spPr>
          <a:xfrm>
            <a:off x="152280" y="2405160"/>
            <a:ext cx="8839440" cy="4452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ANd9GcSSmD0wGQHlE5K-9XwedkjJbytYuUgCjAFuFi_JTrvwsbOOIAPU"/>
          <p:cNvPicPr/>
          <p:nvPr/>
        </p:nvPicPr>
        <p:blipFill>
          <a:blip r:embed="rId2"/>
          <a:stretch/>
        </p:blipFill>
        <p:spPr>
          <a:xfrm>
            <a:off x="762120" y="1263600"/>
            <a:ext cx="7619760" cy="12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GLUCAGEN HYPOKIT (glucagon amp. 1m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3" descr="ANd9GcSSmD0wGQHlE5K-9XwedkjJbytYuUgCjAFuFi_JTrvwsbOOIAPU"/>
          <p:cNvPicPr/>
          <p:nvPr/>
        </p:nvPicPr>
        <p:blipFill>
          <a:blip r:embed="rId1"/>
          <a:stretch/>
        </p:blipFill>
        <p:spPr>
          <a:xfrm>
            <a:off x="609480" y="1523880"/>
            <a:ext cx="7620120" cy="1289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e3c42149-f1f4-44e8-af81-ab7256d376a3-11"/>
          <p:cNvPicPr/>
          <p:nvPr/>
        </p:nvPicPr>
        <p:blipFill>
          <a:blip r:embed="rId2"/>
          <a:stretch/>
        </p:blipFill>
        <p:spPr>
          <a:xfrm>
            <a:off x="1905120" y="2932200"/>
            <a:ext cx="5105160" cy="38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ХИПОКОРТИЦИЗ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05280" y="945720"/>
            <a:ext cx="944892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ак секреције хормона коре надбубрег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дела по нивоу лез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: Лезија коре надбубрег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и: лезија хипофизе/хипоталамуса (неадекватна секреција АЦТХ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дела по то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кут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ронич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дела у зависности од болести других ендо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.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жлезд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олова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 склопу плуригландуларне аутоимунске инсуфицијенције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PG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7030a0"/>
                </a:solidFill>
                <a:latin typeface="Arial"/>
                <a:ea typeface="Arial"/>
              </a:rPr>
              <a:t>Етиологија примарног, стеченог хипокортицизм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039680"/>
            <a:ext cx="4040280" cy="77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кут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402920"/>
            <a:ext cx="40402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емора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нф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4720" y="1292040"/>
            <a:ext cx="4041720" cy="88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Хронич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4720" y="1230120"/>
            <a:ext cx="4041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утоиму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ки процес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Гликокортикоидни леков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тас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68200"/>
            <a:ext cx="9144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7030a0"/>
                </a:solidFill>
                <a:latin typeface="Arial"/>
                <a:ea typeface="Arial"/>
              </a:rPr>
              <a:t>Addison </a:t>
            </a:r>
            <a:r>
              <a:rPr b="1" lang="sr-Latn-CS" sz="2800" spc="-1" strike="noStrike">
                <a:solidFill>
                  <a:srgbClr val="7030a0"/>
                </a:solidFill>
                <a:latin typeface="Arial"/>
                <a:ea typeface="Arial"/>
              </a:rPr>
              <a:t>-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7030a0"/>
                </a:solidFill>
                <a:latin typeface="Arial"/>
                <a:ea typeface="Arial"/>
              </a:rPr>
              <a:t>ова болест </a:t>
            </a:r>
            <a:br>
              <a:rPr sz="2800"/>
            </a:br>
            <a:r>
              <a:rPr b="1" lang="sr-CS" sz="2800" spc="-1" strike="noStrike">
                <a:solidFill>
                  <a:srgbClr val="7030a0"/>
                </a:solidFill>
                <a:latin typeface="Arial"/>
                <a:ea typeface="Arial"/>
              </a:rPr>
              <a:t>(</a:t>
            </a:r>
            <a:r>
              <a:rPr b="1" lang="sr-Latn-CS" sz="2800" spc="-1" strike="noStrike">
                <a:solidFill>
                  <a:srgbClr val="7030a0"/>
                </a:solidFill>
                <a:latin typeface="Arial"/>
                <a:ea typeface="Arial"/>
              </a:rPr>
              <a:t>примарни, хронични хипокортицизам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28240" y="1294920"/>
            <a:ext cx="8915400" cy="48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ви пут ју је опис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r Thomas Addison 185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елативно ретка, инциденција 0.4-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100,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јчешћи узрок ј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деструкција надбубрежних жлез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70-90%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раније је бил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БЦ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што чешћ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oбољевају же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Јавља се у свим старосним груп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30-50 година чешћ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дренална инсуфицијенција се јавља 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е разори 90% коре надбубрег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зак нив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ртизо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&amp; Алдостерон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з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На 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вис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К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метабол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чком ацидоз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волемија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преренална азотемија (повишена уреј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озинофил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гликемије нашт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алаксалост, умор, 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слабост, болови у 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 зглобовима, мука, гађење, повраћање, анорекција, мршављењ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Често позитивна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нтиадренална антите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ишене вреднос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Рени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&amp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пигм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тација коже и слузн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АДРЕНАЛНА ИНСУФИЦИЈЕНЦ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1960" indent="-20196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лабо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1960" indent="-20196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мо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1960" indent="-20196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тарг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1960" indent="-20196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учн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1960" indent="-20196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враћањ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1960" indent="-20196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+/- дијаре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1960" indent="-20196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норексиј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1960" indent="-20196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убитак тежи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1960" indent="-20196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тал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тромос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1960" indent="-20196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+/- синкоп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1960" indent="-201960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дисонска криз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Ш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4932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aрдиоваскуларни колап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1960" indent="-201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4720" y="914040"/>
            <a:ext cx="40417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4720" y="1523880"/>
            <a:ext cx="40417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потензиј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наци дехид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ц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перпигментација/витили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SzPct val="10279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трофија кож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њ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ишићне мас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битак аксилар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&amp; стид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аљав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+/- грозн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КОМПЛИКАЦИЈ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Е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ДИЈАБЕТЕ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КУТ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ГЛИКЕМ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ИЈАБЕТЕСНА КЕТОАЦИДО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ОСМОЛАРНО НЕКЕТОГЕНО СТАЊ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ЛАКТАТНА АЦИДО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РОНИЧ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ИКРОВАСКУЛАР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омпликације на оку (ретинопатија, катаракта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Д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омпликације на бубрезима (нефропатија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Д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омпликације на нервима (неуропатија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Д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АКРОВАСКУЛАР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схемијска болест срца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БС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цереброваскуларна боле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ЦВ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ериферна васкуларна боле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ПВ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0" y="246960"/>
            <a:ext cx="914400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ЛАБОРАТОРИЈА У АДРЕНАЛНОЈ ИНСУФИЦИЈЕНЦИЈ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36400" y="1749600"/>
            <a:ext cx="78343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понатрем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- ↓N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перкалемија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↑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погликемија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↓Gl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отемија (пререна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+/- еозинофили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+/- анемија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Дијагно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941400"/>
            <a:ext cx="9144000" cy="56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 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азални услов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ски нивои кортизола у профи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највиши се очекује у 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ишене вреднос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ма продукције кортизола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ACTH↑) =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дбубре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ма продукције кортизола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ACTH↓)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ф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тимулациони т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е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ynacthen Tes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јспецифичнији тест за дијагноз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јзаступљенији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ратки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”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ест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травенски се даје 25иј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 кортизолемиј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дређује у 0, 30 и 60 мин (инсуфиције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ј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БЖ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постој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ко не дође до одговарајућег пораста нивоа к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зола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F:\slike predavanja\90.png"/>
          <p:cNvPicPr/>
          <p:nvPr/>
        </p:nvPicPr>
        <p:blipFill>
          <a:blip r:embed="rId1"/>
          <a:stretch/>
        </p:blipFill>
        <p:spPr>
          <a:xfrm>
            <a:off x="0" y="0"/>
            <a:ext cx="5029200" cy="3505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F:\slike predavanja\10.png"/>
          <p:cNvPicPr/>
          <p:nvPr/>
        </p:nvPicPr>
        <p:blipFill>
          <a:blip r:embed="rId2"/>
          <a:stretch/>
        </p:blipFill>
        <p:spPr>
          <a:xfrm>
            <a:off x="4952880" y="206280"/>
            <a:ext cx="4191120" cy="5203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F:\slike predavanja\9.png"/>
          <p:cNvPicPr/>
          <p:nvPr/>
        </p:nvPicPr>
        <p:blipFill>
          <a:blip r:embed="rId3"/>
          <a:stretch/>
        </p:blipFill>
        <p:spPr>
          <a:xfrm>
            <a:off x="0" y="3505320"/>
            <a:ext cx="49165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0" y="191880"/>
            <a:ext cx="9144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ПРЕЦИПИТИШУЋИ ФАКТОРИ ЗА </a:t>
            </a:r>
            <a:r>
              <a:rPr b="1" lang="sr-Latn-CS" sz="2800" spc="-1" strike="noStrike">
                <a:solidFill>
                  <a:srgbClr val="7030a0"/>
                </a:solidFill>
                <a:latin typeface="Arial"/>
                <a:ea typeface="Arial"/>
              </a:rPr>
              <a:t>Адисонск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у</a:t>
            </a:r>
            <a:r>
              <a:rPr b="1" lang="sr-Latn-CS" sz="2800" spc="-1" strike="noStrike">
                <a:solidFill>
                  <a:srgbClr val="7030a0"/>
                </a:solidFill>
                <a:latin typeface="Arial"/>
                <a:ea typeface="Arial"/>
              </a:rPr>
              <a:t> криз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473040" y="1434960"/>
            <a:ext cx="827712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кутна инфекција, упала плућа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кут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нфаркт миокар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АИ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лућна емболи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-ПТ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раума/опекотин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рург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ложеност топло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враћање/дијаре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хид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ц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убитак крв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гл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прекид или редукција хроничне терап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је ГК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45600" y="1197000"/>
            <a:ext cx="8798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дук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идентификациона картица, унос соли 3-4г днев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drocortison</a:t>
            </a:r>
            <a:r>
              <a:rPr b="1" i="1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Д листа лекова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зима се са оброком или млеком/антациди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невна доза 20-30мг, имитирати дневни рита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2/3 дозе ујутру и 1/3 увече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на пример:10+5+5 м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инералокортикоид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udrocortison </a:t>
            </a:r>
            <a:r>
              <a:rPr b="1" i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(А</a:t>
            </a:r>
            <a:r>
              <a:rPr b="1" i="1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stonin H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0.05-0.1мг/д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0" y="206280"/>
            <a:ext cx="91440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Лечење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Адисонск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е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 криз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504720" y="1066680"/>
            <a:ext cx="8371080" cy="44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ЈИЛ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сеони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гресиван додатак течности – обично 4-6 л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докнада електролит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V hydrocortisone</a:t>
            </a:r>
            <a:r>
              <a:rPr b="0" i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-250 mg IV bolus</a:t>
            </a:r>
            <a:r>
              <a:rPr b="0" i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-20 mg/h IV inf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ражити преципитишући фактор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ВЕНЦИЈА: ЗА ПАЦИЈЕНТЕ НА ХРОНИЧНИМ ГК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уплирати уобичајену дневну дозу пре и бар 2 - 3 дана после стресне процедуре или у активној инфекциј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За озбиљан стрес размотрити утростручавање доз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457200" y="457200"/>
            <a:ext cx="7924680" cy="59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ада се стање пацијента поправи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7360" indent="-5544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drocortis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на 100 mg/12ч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7360" indent="-5544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ловити дозу свакодневно до раније дозе (обично 20 m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drocortis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д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7360" indent="-5544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одати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udrocortis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0.1mg/д, када је доз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drocortis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&lt;100mg/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 акутним стањима (посебно фебрилности, повреда, мање хируршке интервенције, екстракција зуба итд.) потребно је повисити дозу на 75-150мг/дан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колико пацијент не може да узима лек на уста, примени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drocortiso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парентералн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7360" indent="-5544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Поступак за припрему током већих хируршких интервенција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263600"/>
            <a:ext cx="850752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о дана операције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drocortiso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се даје перорално у уобичајеној дози (20мг+10мг) заједно с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udrocortison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м 0.1мг/д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 дан операциј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drocortiso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се даје парентерално, на два начин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онтинуирана инфузија 10мг/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травенске ињекције 100мг на 8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кон операције доза се смањује ако се пацијент опоравља и ако је афебрилан сваког дана за 20-30%, а затим се преводи на пероралну терапиј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udrocortiso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се не уводи док год је укупна дневна доз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drocortiso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-а &gt; 100мг/д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  <a:ea typeface="Arial"/>
              </a:rPr>
              <a:t>Б</a:t>
            </a:r>
            <a:r>
              <a:rPr b="1" lang="sr-Latn-CS" sz="3600" spc="-1" strike="noStrike">
                <a:solidFill>
                  <a:srgbClr val="7030a0"/>
                </a:solidFill>
                <a:latin typeface="Arial"/>
                <a:ea typeface="Arial"/>
              </a:rPr>
              <a:t>олест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sr-Latn-CS" sz="3600" spc="-1" strike="noStrike">
                <a:solidFill>
                  <a:srgbClr val="7030a0"/>
                </a:solidFill>
                <a:latin typeface="Arial"/>
                <a:ea typeface="Arial"/>
              </a:rPr>
              <a:t>медуле надбубрег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20320" y="1600200"/>
            <a:ext cx="8466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ФЕОХРОМОЦИТО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је тумор 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матофилних ћелија неуроектодермалног порекла које луче катехоламине (симпатикоадренални систем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се може налазити у медули надбубрега или у другим деловима симпатикусног нервног система (екстрадренални феохромоцитом - </a:t>
            </a:r>
            <a:r>
              <a:rPr b="1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ганглио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0160" y="-360"/>
            <a:ext cx="894384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ПАТОАНАТОМИЈА</a:t>
            </a: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(правило “10%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28240" y="1062000"/>
            <a:ext cx="891540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Локализа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едула надбубрега (9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кстрамедуларни (1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ни (90%) или билатерални (1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нифокални (90%) или мултилокуларни (1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дултни (90%) или јувенилни (1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енигни (90%) или малигни (1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1. ДИЈАБЕТЕСНА КЕТОАЦИДОЗ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04920" y="1066680"/>
            <a:ext cx="838188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Gulim"/>
              </a:rPr>
              <a:t>животно угрожавају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стањ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Gulim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Gulim"/>
              </a:rPr>
              <a:t>резултат озбиљног дефицита инсул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Gulim"/>
              </a:rPr>
              <a:t>доводи до ослобађања СМК у циркулацију и оксидације МК у јетри, стварање кетонских т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algun Gothic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algun Gothic"/>
              </a:rPr>
              <a:t>5-8/ 1000 оболелих од Д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algun Gothic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algun Gothic"/>
              </a:rPr>
              <a:t>oкo 3% свих пријема  оболелих од Д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algun Gothic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algun Gothic"/>
              </a:rPr>
              <a:t>Морталитет 2-10%, већи код старијих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Дешава се ексцес контрарегулаторних хормона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algun Gothic"/>
              </a:rPr>
              <a:t>Glucagon, еpinephrine, Cortisol, Growth hormon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Malgun Gothic"/>
              </a:rPr>
              <a:t>КЛИНИЧКА ПРЕЗЕНТА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Gulim"/>
              </a:rPr>
              <a:t> Развија се за неколико дан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Gulim"/>
              </a:rPr>
              <a:t>ПОСЛЕДИЦЕ: Мождани едем, АРСД, тромбоемболизам, ДИ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0" y="175680"/>
            <a:ext cx="9144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ИНДИКАЦИЈЕ ЗА  СКРИНИНГ НА 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Phe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89000" y="1276200"/>
            <a:ext cx="8955000" cy="36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тензија са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760" indent="-92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тепен 3 или 4 ретинопатије без откривеног узрок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760" indent="-92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убитак у Т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760" indent="-92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гликем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760" indent="-92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метаболичко стање са нормалним тироидним статусо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760" indent="-92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ардиомиопат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760" indent="-92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езистенција на 2-3 антихипертензив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760" indent="-92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ртостатска хипотент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760" indent="-92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објашњива грозниц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0" y="147960"/>
            <a:ext cx="9144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ИНДИКАЦИЈЕ ЗА  СКРИНИНГ НА 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Phe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20680" y="835200"/>
            <a:ext cx="892332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0840" indent="-150840">
              <a:spcAft>
                <a:spcPts val="312"/>
              </a:spcAft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збиљан скок ТА на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9684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перацију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9684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нестезију или интубацију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9684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нгиографију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9684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ођа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објашњив циркулаторни шок током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9684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нестезиј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9684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рудноће, порођаја пуерперијум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9684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перације (или после операције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9684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потребе фенотиазин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одична анамнеза з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e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лабилан ТА или озбиљна ХТА током трудноћ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КЛИНИЧКА СЛ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1197000"/>
            <a:ext cx="8915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ртеријска хипертензија (90-10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ријада (90% има најмање 2 од 3 симптом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Главобоље, бледило, мучн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резнојавањ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алпитациј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нксиозност, Мршављење, Тремор, хипертрофична или дилатациона миокардиопат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зненадна смрт,  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Акутни абдом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33720" y="-360"/>
            <a:ext cx="9898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АРТЕРИЈСКА ХИПЕРТЕНЗИЈА(90-10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941400"/>
            <a:ext cx="91440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АРАКТЕРИСТИ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рајна (“фиксирана”) око 5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Епизодична (пароксизмална) око 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ормална око 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АРОКСИЗМАЛНИ НАПАД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колико пута дневно до једном у више годи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четак: спонтано или провока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а клиничка слика током напада (често хипергликемија и леукоцитоз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акон напада исцрпљеност и ум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РТОСТАТСКА ХИПОТЕНЗИЈА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(због стално повишених катехоламина от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љени постурални рефлекси, смањењ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ЦТ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волумена, секреција адре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улин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7030a0"/>
                </a:solidFill>
                <a:latin typeface="Arial"/>
                <a:ea typeface="Arial"/>
              </a:rPr>
              <a:t>ДИЈАГНОЗ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941040"/>
            <a:ext cx="9144000" cy="55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sl-SI" sz="2400" spc="-1" strike="noStrike">
                <a:solidFill>
                  <a:srgbClr val="7030a0"/>
                </a:solidFill>
                <a:latin typeface="Arial"/>
                <a:ea typeface="Arial"/>
              </a:rPr>
              <a:t>ФУНКЦИОНАЛНИ ТЕСТО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И УСЛО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атехоламини у урину (А,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, Д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етаболити катехоламина у урину (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, Норметанефрин и Метанефри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атехоламини и Метанефрин у плаз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ромогранин А у плаз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7030a0"/>
                </a:solidFill>
                <a:latin typeface="Arial"/>
                <a:ea typeface="Arial"/>
              </a:rPr>
              <a:t>ДИЈАГНОЗ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332000"/>
            <a:ext cx="91440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Е ПРЕТРАГ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Ц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М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цинтиграфске методе (М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BG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и 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реотид сцинтиграфиј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атетеризација вена са узимањем узорака за одређивање катехоламин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(“семпловање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ДИФЕРЕНЦИЈАЛНА ДИЈАГНО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31920" y="1676520"/>
            <a:ext cx="8812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вентила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анични нап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иреотоксико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гликем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тенокард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пстиненцијални синдром (етилиза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р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задње лобањске јам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(главобоље, хиперкатехоламинемија и хипертензиј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7030a0"/>
                </a:solidFill>
                <a:latin typeface="Arial"/>
                <a:ea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10584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РИПРЕМА ЗА ХИРУРШКУ ИНТЕРВЕНЦИЈ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-блокатор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Феноксибензамин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јмање 10-14 дана пре хируршке интервенције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-блокатор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се даје након успостављањ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-блокаде, обично су потребне мале дозе: (Пропранолол 3-4 пута по 10мг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7030a0"/>
                </a:solidFill>
                <a:latin typeface="Arial"/>
                <a:ea typeface="Arial"/>
              </a:rPr>
              <a:t>Увек прво </a:t>
            </a:r>
            <a:r>
              <a:rPr b="1" lang="en-US" sz="2000" spc="-1" strike="noStrike">
                <a:solidFill>
                  <a:srgbClr val="7030a0"/>
                </a:solidFill>
                <a:latin typeface="Times New Roman"/>
              </a:rPr>
              <a:t>α</a:t>
            </a:r>
            <a:r>
              <a:rPr b="1" lang="sl-SI" sz="2000" spc="-1" strike="noStrike">
                <a:solidFill>
                  <a:srgbClr val="7030a0"/>
                </a:solidFill>
                <a:latin typeface="Arial"/>
                <a:ea typeface="Arial"/>
              </a:rPr>
              <a:t>, па затим</a:t>
            </a:r>
            <a:r>
              <a:rPr b="1" lang="en-US" sz="2000" spc="-1" strike="noStrike">
                <a:solidFill>
                  <a:srgbClr val="7030a0"/>
                </a:solidFill>
                <a:latin typeface="Times New Roman"/>
              </a:rPr>
              <a:t> β </a:t>
            </a:r>
            <a:r>
              <a:rPr b="1" lang="sl-SI" sz="2000" spc="-1" strike="noStrike">
                <a:solidFill>
                  <a:srgbClr val="7030a0"/>
                </a:solidFill>
                <a:latin typeface="Arial"/>
                <a:ea typeface="Arial"/>
              </a:rPr>
              <a:t>блокада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Експанзија волуме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РУРШКА ИНТЕРВЕН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орталитет 2-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Излечење у 2/3 пацијена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524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7030a0"/>
                </a:solidFill>
                <a:latin typeface="Arial"/>
                <a:ea typeface="Arial"/>
              </a:rPr>
              <a:t>Хиперметаболичко/хиперадренергичко клиничко ст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2480" indent="-332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азалног метаболизма у физиолошким услов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160360" indent="-2214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кон узимања хра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160360" indent="-2214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след промене климатских усл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160360" indent="-2214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 зависности од узра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160360" indent="-2214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 трудноћ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160360" indent="-2214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след физичке актив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160360" indent="-2214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замор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160360" indent="-2214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след дејства ендокриних фактора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160360" indent="-2214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след активације симпатику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2480" indent="-332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азалног метаболизма у патолошким услов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160360" indent="-2214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реотоксико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160360" indent="-2214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озн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160360" indent="-2214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еохромоцит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160360" indent="-2214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четна фаза хипотерм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160360" indent="-2214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умор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160360" indent="-2214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ијабетесна кетоацидо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160360" indent="-2214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рчана инсуфицијен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9677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         </a:t>
            </a: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Т</a:t>
            </a:r>
            <a:r>
              <a:rPr b="1" lang="sr-CS" sz="2800" spc="-1" strike="noStrike">
                <a:solidFill>
                  <a:srgbClr val="7030a0"/>
                </a:solidFill>
                <a:latin typeface="Arial"/>
                <a:ea typeface="Arial"/>
              </a:rPr>
              <a:t>иреотоксична криза</a:t>
            </a:r>
            <a:r>
              <a:rPr b="1" lang="sl-SI" sz="2800" spc="-1" strike="noStrike">
                <a:solidFill>
                  <a:srgbClr val="7030a0"/>
                </a:solidFill>
                <a:latin typeface="Arial"/>
                <a:ea typeface="Arial"/>
              </a:rPr>
              <a:t> (“тиреотоксична олуја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 живот опасна егзацербација хипертиреоидизма (фебрилност, делиријум, мишићни грчеви, повраћање, дијареја, жутица, ком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лечена или непрепозната хипертирео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кутна болест (ЦВИ, АИМ, инфекција, траума, ДК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По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ивот опасна, изненадна хиперактивност тироиде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едстављ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завршн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азу континуума: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„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тирео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идизам-тиреотоксикоза-тиреотоксична олуја-тироидна олу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ражава дод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т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адренергичк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хиперактивност, 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ндукован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еспецифичн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стрес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у амбијенту н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лече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недовољно леченог хиперитироидиз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ноз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Раније је морталитет код нелечених пацијената износи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%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,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%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код лече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пре појаве бета блокат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. Актуелно, морталитет 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&lt;5%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код лечених пацијена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УЗРОЦ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19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тре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који преципити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к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езултира повећ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 катехолам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кортизо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глукаг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а (пнеумонија, 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Т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лкохол, дрог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ждани уда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нфаркт миокар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нкреатити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вре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Лекови (стероиди, тиазидни диуретиц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комплијантност са инсулин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епоштовање инсул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ке терап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0" y="306360"/>
            <a:ext cx="9144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7030a0"/>
                </a:solidFill>
                <a:latin typeface="Arial"/>
                <a:ea typeface="Arial"/>
              </a:rPr>
              <a:t>Тиреотоксична криза - преципитишући фактор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04920" y="1676520"/>
            <a:ext cx="8839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а, упала плућ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лућна емболи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КА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ођај/токсем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раума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перац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рург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Ј 131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ЈК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бустављање антитироидних леков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0" y="306360"/>
            <a:ext cx="9144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7030a0"/>
                </a:solidFill>
                <a:latin typeface="Arial"/>
                <a:ea typeface="Arial"/>
              </a:rPr>
              <a:t>Тиреотоксична криза - клиничка презентациј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228600" y="1219320"/>
            <a:ext cx="89154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розн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руше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ментални статус (узнемиреност конфузија, ком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ахикард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враћање/дијаре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+/- жут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+/- стру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   +/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opthalm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7030a0"/>
                </a:solidFill>
                <a:latin typeface="Arial"/>
                <a:ea typeface="Arial"/>
              </a:rPr>
              <a:t>ЦНС манифестациј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а повећањем тежине олуј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кинез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неми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Емоционал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с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ил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збуње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психо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апат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поспа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м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КАРДИОВАСКУЛАРНЕ МАНИФЕСТАЦИЈ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ећана срчана фреквенца (синусна тахикардија или атријална фибрилација), Повећана раздражљивост (АВ блок 1, степена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Резултат слика за crisis thyrotoxicosis"/>
          <p:cNvPicPr/>
          <p:nvPr/>
        </p:nvPicPr>
        <p:blipFill>
          <a:blip r:embed="rId1"/>
          <a:stretch/>
        </p:blipFill>
        <p:spPr>
          <a:xfrm>
            <a:off x="1143000" y="228600"/>
            <a:ext cx="7086600" cy="606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0" y="222480"/>
            <a:ext cx="9144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ТЕРАПИЈ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380880" y="1371600"/>
            <a:ext cx="8382240" cy="41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ЈИЛ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сок проток O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рзо хлађење  (ако је висока температура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+/- IV течност код дехидратациј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та блокатор IV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/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goxi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локатор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анала (АФ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/- диуретик за С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крити и лечити преципитишући узро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drocortis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00 m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TU 600-900 mg P.O или NG, затим 200-300 mg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/6-8ч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Јод (&gt; 1h након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:  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3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 gt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МИКСЕДЕМСКА КО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Завршни стадијум тешког, дуготрајног и нелеченог хипотиреоидиз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шава се код 0.1% случајева хипотироидиз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рло редак код особа &lt; 50 год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0 % случајева постаје евидентно тек са хоспитализациј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орталитет је 100% код нелечених, 50% код лечених па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 се презентује зими (изложеност хладноћ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 и знац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термија (до 23</a:t>
            </a:r>
            <a:r>
              <a:rPr b="0" lang="sl-SI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Ц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икседем, брадикардија, хипотензија, арефлекс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лвеоларна хиповентилација, ретенциј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илуциона хипонатрием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ички поремећаји: од агитираности (“микседемско лудило”) до ком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C:\My Photos\thyroid17.jpg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93720" y="260280"/>
            <a:ext cx="4957920" cy="62946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5715000" y="2389320"/>
            <a:ext cx="3429000" cy="37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yxоedemа com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0" y="-15480"/>
            <a:ext cx="9144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ПРЕЦИПИТИШУЋИ  И ДОПРИНОШУЋИ ФАКТОР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457200" y="1523880"/>
            <a:ext cx="754848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8080" indent="-2080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злагање хладноћ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неумон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У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вред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08080" indent="-2080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нестетици и лекови са депресорним дејством на ЦН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ркотици, Барбитурати, транкилизер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Цереброваскуларни акцидент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онгестивна С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епс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395280" y="679320"/>
            <a:ext cx="87487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609480" y="304920"/>
            <a:ext cx="81536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Типична презентација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обичајени симптоми и знаци хипотироидизма плус: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термија (80% случајева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тензија/брадикард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вентилација/респираторна слабос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леу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нижен ментални статус/ком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Image result for myxoedema coma"/>
          <p:cNvPicPr/>
          <p:nvPr/>
        </p:nvPicPr>
        <p:blipFill>
          <a:blip r:embed="rId1"/>
          <a:stretch/>
        </p:blipFill>
        <p:spPr>
          <a:xfrm>
            <a:off x="838080" y="0"/>
            <a:ext cx="739152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Image result for myxoedema coma"/>
          <p:cNvPicPr/>
          <p:nvPr/>
        </p:nvPicPr>
        <p:blipFill>
          <a:blip r:embed="rId1"/>
          <a:stretch/>
        </p:blipFill>
        <p:spPr>
          <a:xfrm>
            <a:off x="1447920" y="228600"/>
            <a:ext cx="6248160" cy="656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ДИЈАБЕТЕСНА КЕТОАЦИДО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Arial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лиур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лидипс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Замагљен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учн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ол у стома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м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буњенос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Arial"/>
              </a:rPr>
              <a:t>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астро-ентерит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ехидрациј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враћањ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честал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мокрењ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х на ацето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ува уста и јез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мурлу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убоко дисањ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м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КОМПЛИКАЦИЈЕ ХИПОТИРЕОЗ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икседемска кома је најозбиљн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 и знаци обухватају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иску 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спорено дисањ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тензиј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гликемиј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адекватан одгов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прес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рчана слабо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н ризик за инфекциј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нфертилит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бача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омпликације услед предозирања супституционом терапијо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тријална фибрила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стеопоро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 хипертироидиз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0" y="238320"/>
            <a:ext cx="9144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УРГЕНТНА ТЕРАПИЈ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52280" y="1295280"/>
            <a:ext cx="8763120" cy="31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ЈИЛ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ubation / ventilatio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ерити гликемију, +/- IV D50  +/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loxon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drocortis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00-250 mg IV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ро загревањ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yrox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T4) 500 mcg IV, затим 50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c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.O. или 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ажљива IV надокнада течности (СИ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ати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треба да опадне за 24h и нормализује за 7 дан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Image result for myxoedema coma"/>
          <p:cNvPicPr/>
          <p:nvPr/>
        </p:nvPicPr>
        <p:blipFill>
          <a:blip r:embed="rId1"/>
          <a:stretch/>
        </p:blipFill>
        <p:spPr>
          <a:xfrm>
            <a:off x="668160" y="860400"/>
            <a:ext cx="7790040" cy="51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Image result for myxoedema coma"/>
          <p:cNvPicPr/>
          <p:nvPr/>
        </p:nvPicPr>
        <p:blipFill>
          <a:blip r:embed="rId1"/>
          <a:stretch/>
        </p:blipFill>
        <p:spPr>
          <a:xfrm>
            <a:off x="407880" y="1143000"/>
            <a:ext cx="3478320" cy="4572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Image result for myxoedema coma"/>
          <p:cNvPicPr/>
          <p:nvPr/>
        </p:nvPicPr>
        <p:blipFill>
          <a:blip r:embed="rId2"/>
          <a:stretch/>
        </p:blipFill>
        <p:spPr>
          <a:xfrm>
            <a:off x="3886200" y="990720"/>
            <a:ext cx="52578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ФИЗИКАЛНИМ ПРЕГЛЕ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тенз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ахикардиј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ussmau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ово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сање (дубо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отежано д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ањ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х на ацето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уве слузниц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уњено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бдоминал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сетљиво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solidFill>
            <a:srgbClr val="c2fff0"/>
          </a:solidFill>
          <a:ln w="9360">
            <a:solidFill>
              <a:srgbClr val="00cc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  <a:ea typeface="Arial"/>
              </a:rPr>
              <a:t>БЛАГА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  <a:ea typeface="Arial"/>
              </a:rPr>
              <a:t>ДКА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  <a:ea typeface="Arial"/>
              </a:rPr>
              <a:t>ОЗБИЉ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ликемија&gt; 300 mg/d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мерена дехидратациј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етонурија(+) до (++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 15 m Eq/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 (MАЦ): арт. &lt; 7.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вен. &lt; 7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осмоларно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ликемија &gt; 300 mg/d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збиљна дехидрата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етонурија 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 10 mEq/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 (MАЦ): арт. &lt; 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ли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ен. &lt; 6.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осмоларно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нјонски зјап &gt; 12 mEq/l (нормално 7-8 mEq/l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ТЕРАПИЈА ДИЈАБЕТЕСНЕ КЕТОАЦИДОЗ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90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аветује се лечењ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К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век у ЈИЛ у први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4-48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а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ни т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ијски поступ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рекција губитка течности применом интравенских раств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рекција хипергликемије применом инсул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рекција елетролитског дисбаланса, посебно губитка калију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рекција ацидо-базног дисбалан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ечење инфекције ако је присут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еома је важно обратити пажњу на могуће пратеће поремећаје: 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а, ЦВИ, ИМ, сепса и ДВ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њује се само краткоделујући инсулин и то интравенозно (спора субкутана апсорпција у стањима дехидратациј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њује се 0.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ij/kg/h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пр. за особу од 80 кг примењује се 8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ij/h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) све док гликемија не буде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M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Л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затим се примењују раствори Г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16:05:40Z</dcterms:created>
  <dc:creator>Violeta Mladenovic</dc:creator>
  <dc:description/>
  <dc:language>en-US</dc:language>
  <cp:lastModifiedBy>KC Kragujevac</cp:lastModifiedBy>
  <dcterms:modified xsi:type="dcterms:W3CDTF">2020-09-29T09:57:13Z</dcterms:modified>
  <cp:revision>152</cp:revision>
  <dc:subject/>
  <dc:title>PATOLOŠKA FIZIOLOGIJA ENDOKRINOG SISTEMA</dc:title>
</cp:coreProperties>
</file>